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28A-A2E6-498D-B780-EBD74BBF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4D2-5EE7-4236-B5E9-F5F5635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A7C-F0F2-4644-9159-C1F5035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77D-F427-4EAC-BDAE-797D4C07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F7E-D575-4C34-98E6-4743AA8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9C4-0651-488D-A49C-9FA535D3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00C-5543-4D7C-B729-C5D24A9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9A9-55C5-48DA-ADA9-2B0418B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1F4-B966-457C-A1FF-C1EA2CD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151-EBAA-4A88-836A-1BDDA37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62E-1891-41E5-A88A-0E7392E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B78-C2E7-49D8-A6AA-80220E6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91D-AEFE-45B6-A0D7-D5E5E0F236F2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т 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3143160" cy="492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929040" y="714240"/>
            <a:ext cx="3571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85840" y="3929040"/>
            <a:ext cx="657216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8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 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usko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literaturi Lepage (nazivi hvato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replovci ,,loomi looomi masaža sa Tahit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214200"/>
            <a:ext cx="7650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лар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ери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ро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не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цењ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чна револуција пре око 250 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 тело  као сложена маш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цењ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школов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ирича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стен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иј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алишт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њ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ж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држљ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ди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ов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уш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в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ев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с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рцхбер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б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285560"/>
            <a:ext cx="7386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тр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2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л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е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кт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р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/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ri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001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с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798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73580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ада се под појмом масажа подразумевало првенствено  коришћење енергије руку терапеута на телу пацијента, који је при том пасиван, тзв мануелна 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 од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75 потпуно различитих техни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 можемо сматрати масажом, које се изводе на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ичите начине;  мануелно, а неке апаратима (апаратурна масажа). Неке технике масаже подразумевају пренос енергије са терапеута на пацијента некада и без директног конт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порекл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остоји савремена и традиционална масажа. Савремена масажа је повезана са кинезитерапијом; данас се користи не само у терапијске, него и у профилактичке сврх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томе ко изводи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постоји самомасажа, код које се особа сама масира, или масажу изводи једна особа (терапеут) на другој осо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класична мануел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лимфна дрен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рефлекс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зметич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 начину извођењ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3520" y="713880"/>
            <a:ext cx="7386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уелну или ручну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ју изводи терапеут рукама користећи сопствену енерг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) класичне техник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глађење,трљање, гњечење,лупкање и виб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) специјалне технике масаж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остна, фасцијална, поткожна, кожна, сегментна масажа, акопресура, рефлексна масажа стопала, шијацу масажа, мануелна лимфна дренажа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ка млитавост  и  замореност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гес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S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 делује на нервозу,главобољу  несан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преверемено рођен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ао антистресогена 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терапији депресије, болова,стимулише имунитет.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3520" y="642600"/>
            <a:ext cx="7386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Алзхеимер ове болести, депресије, фибромијалгије, пременструалних тегоба, стреса на послу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ч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ов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arpal tunel 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возе, главобоље и неса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у  мокраћом: мокраћне киселине, соли фосфора, нитрата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лања ум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ма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-1476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3520" y="500040"/>
            <a:ext cx="7386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рујемо да је масажа стара колико и човечанство. Она постоји ,,од тренутка кад  је праисторијски човек први пут трљао своје убоје,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kman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ме сведоче цртежи из праисторије сачувани на зидовима пећ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 је коришћен као терапијско средство много пре употребе лекова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, 2002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е масаже везано је за историјске, верске и економске окол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ада  је масажа чешће коришћена у појединим деловима света, у одређеним слојевима друштва, првенствено код особа које су имале нек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50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пук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уд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па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aty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z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ж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гипћ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р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сијан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а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n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о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прш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имљ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ле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дијат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за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диј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цер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ч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-95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3520" y="214200"/>
            <a:ext cx="738648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sa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је боловао од епилепсије; користио штипкање,  да би олакшао главобољу и неуралгију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linij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, чувени  римски  научник, астму ублажавао је  трљањ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имски државници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ulije Cezar, Hadrian, Ciceron, Celsi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мали су своје личне масере. 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omerovoj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,Одисеји,,  је описано како су се грчки јунаци масирали у паузи између борби под Тро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520" y="356760"/>
            <a:ext cx="73864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alen Claudius (130-200 pne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коли за гладијато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 спортски саветовао је примену масаже као начин загревања гладијатора пре борбе, али и за здраве особе, атлете. ,,сва мишићна влакна треба истегнути у свим правцима,,... намера масаже ,,да размекша тело пре вежбања,,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веку Римљанин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ribasius (325-40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e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ише да да пре вежбања удове масажом треба угрејати и омекшати, а после рада омлитавети и освежити. Овакви ставови важе у спортској масажи до данашњих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 су у почетку спроводили нешколовани људи који су емпиријски стицали знања од својих претходника,а унапређивана је кроз практичну при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 времена масажа се развијала првенствено као лекарска вештина, јер је за њено извођење потребно  познавање анатомије и физ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85880"/>
            <a:ext cx="76500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збиј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ицај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ишћан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ес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brosius Par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веђан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H. 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ива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де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вед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имнастич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к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оланђан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ge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1839-1900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роп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ват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блудов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06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и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ељ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рли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ликов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ива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аси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нуе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њиг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и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прем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арају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20:25:35Z</dcterms:modified>
  <cp:revision>56</cp:revision>
  <dc:subject/>
  <dc:title>Uvod u masažu</dc:title>
</cp:coreProperties>
</file>